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3DC-044D-4526-A482-EE0DB151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4215-205A-4395-AB09-31F82F2D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0F3A-41B3-40BE-AAD0-CD067C03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C33-E3D2-4661-A193-88C41401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1EB-64F8-4383-B4B8-AE686544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C029-E816-42AC-8111-B4E4BE42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9786-1FB9-4073-824F-66B53FC0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CEEB-BEBB-4F79-9BAE-94EBDB47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4383-3553-45DC-A082-986AE870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ADC-B524-4D1A-A07C-0381C1CB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9D5-69EA-471C-AB45-19477B98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2F24-7D48-4D4D-AADC-0963FD71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9B48-E0BB-4994-94B3-CEFD13937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epa.newschool.edu/het/schools/mercant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image" Target="../media/image28.jpeg"/><Relationship Id="rId4" Type="http://schemas.openxmlformats.org/officeDocument/2006/relationships/image" Target="../media/image26.jpe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apLouisXIVAquisitions1668-97p535"/>
          <p:cNvPicPr/>
          <p:nvPr/>
        </p:nvPicPr>
        <p:blipFill>
          <a:blip r:embed="rId1"/>
          <a:stretch/>
        </p:blipFill>
        <p:spPr>
          <a:xfrm>
            <a:off x="1828800" y="228600"/>
            <a:ext cx="6076800" cy="5869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2362320"/>
            <a:ext cx="1752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e expands its’ borders- Many of these areas will lead to disputes until WWII - Especially the area known a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s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 flipV="1">
            <a:off x="1295280" y="3047760"/>
            <a:ext cx="54104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uis XIV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n King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43-17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5120" y="1828800"/>
            <a:ext cx="6248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Versailles- (Where is it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bles were all forced to live at Versai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larged Army- Largest army in Europe, 400,000!!! Tr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ght several Wars- Other European nations allied w/one another to fend Louis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ded borders of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ocated Mercantilism (see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OKED THE EDICT OF NAN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e Henry IV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Kings wanted to emulate Louis- Era of the Divine Right of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borate rituals surrounded Louis court at Versai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ey flowed from the Treasury, beginning a century of financial problems for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louis14aftrigaud_1638-1715lrg36k"/>
          <p:cNvPicPr/>
          <p:nvPr/>
        </p:nvPicPr>
        <p:blipFill>
          <a:blip r:embed="rId1"/>
          <a:stretch/>
        </p:blipFill>
        <p:spPr>
          <a:xfrm>
            <a:off x="155520" y="46080"/>
            <a:ext cx="2657520" cy="4200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Acueil250"/>
          <p:cNvPicPr/>
          <p:nvPr/>
        </p:nvPicPr>
        <p:blipFill>
          <a:blip r:embed="rId2"/>
          <a:stretch/>
        </p:blipFill>
        <p:spPr>
          <a:xfrm>
            <a:off x="6753240" y="0"/>
            <a:ext cx="2390760" cy="1790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2"/>
          <p:cNvSpPr/>
          <p:nvPr/>
        </p:nvSpPr>
        <p:spPr>
          <a:xfrm>
            <a:off x="304920" y="4267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etat c’est Mo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0" y="46483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youth he escaped near death in Paris- he never liked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0" y="5667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ed Charles II and James II of England- secretly sought to restore Catholicism to 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dinal Mazar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powerful church official?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2332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uit educated in R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on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mid 1600s, were largely due to mistakes by Maza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zarin was primarily interested in extending French power over Europe- which Louis XIV would later accompli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MAZARIN"/>
          <p:cNvPicPr/>
          <p:nvPr/>
        </p:nvPicPr>
        <p:blipFill>
          <a:blip r:embed="rId1"/>
          <a:stretch/>
        </p:blipFill>
        <p:spPr>
          <a:xfrm>
            <a:off x="838080" y="0"/>
            <a:ext cx="187020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7920" y="3805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an Colbe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e Mini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ôleur généra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oughly, minister of finance) under King Louis XIV of France.  Kept financial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t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ercanti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ctrine that the expansion of commerce (and the maintenance of a favorable balance of trade) was the key to State weal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he movement of goods and labor between regions of France remained in plac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bert recognized the need for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 internal transportation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ut only because it was necessary to connect the ports to French import-export indus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olbert2"/>
          <p:cNvPicPr/>
          <p:nvPr/>
        </p:nvPicPr>
        <p:blipFill>
          <a:blip r:embed="rId2"/>
          <a:stretch/>
        </p:blipFill>
        <p:spPr>
          <a:xfrm>
            <a:off x="7658280" y="0"/>
            <a:ext cx="148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ercantilism- An Economic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is only so much wealth in the wor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ytime another country gains wealth it means that my country becomes po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fore its necessary to keep a positiv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alance of Trad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(Exports-Impor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por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goods sold from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mpor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goods brought into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ariff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re taxes on trade.  By having high tariffs on imports a country can reduce the number of imports it has and then have a positive Balance of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nite Worl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means economics and wealth is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ero sum Gam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Trade Theory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FRANCE IN THE 1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de is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nother country can make something cheaper, consumers in the importing country get a better good at a cheaper p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r country should specialize in those types of goods that we make better and cheaper.  Those goods and services will be our Expor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negative trade balance is not necessarily b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de promotes cooperation and interdependence which means less conflict (W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ie (Wealth in the World) is not limited (finite).  A vibrant economy often devises new and innovative methods to make g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676520" y="5020560"/>
            <a:ext cx="6248160" cy="12801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What is the US Trade Balance?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What country is our biggest trading partn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What country do we have the most negative trade balan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What country do we have the most positive trade bal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. Balazs’ summer house? No this is VERSAI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versail"/>
          <p:cNvPicPr/>
          <p:nvPr/>
        </p:nvPicPr>
        <p:blipFill>
          <a:blip r:embed="rId1"/>
          <a:stretch/>
        </p:blipFill>
        <p:spPr>
          <a:xfrm>
            <a:off x="914400" y="1600200"/>
            <a:ext cx="68580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very nice Room at Versai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Treaty’s were signed at Versail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versailles"/>
          <p:cNvPicPr/>
          <p:nvPr/>
        </p:nvPicPr>
        <p:blipFill>
          <a:blip r:embed="rId1"/>
          <a:stretch/>
        </p:blipFill>
        <p:spPr>
          <a:xfrm>
            <a:off x="1371600" y="2895480"/>
            <a:ext cx="532440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versailles"/>
          <p:cNvPicPr/>
          <p:nvPr/>
        </p:nvPicPr>
        <p:blipFill>
          <a:blip r:embed="rId1"/>
          <a:stretch/>
        </p:blipFill>
        <p:spPr>
          <a:xfrm>
            <a:off x="762120" y="1143000"/>
            <a:ext cx="7677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19920" y="4952520"/>
            <a:ext cx="259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s of Versai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versailles-1994b"/>
          <p:cNvPicPr/>
          <p:nvPr/>
        </p:nvPicPr>
        <p:blipFill>
          <a:blip r:embed="rId1"/>
          <a:stretch/>
        </p:blipFill>
        <p:spPr>
          <a:xfrm>
            <a:off x="0" y="0"/>
            <a:ext cx="4191120" cy="279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40th%20b'day%20Versailles%20gardens"/>
          <p:cNvPicPr/>
          <p:nvPr/>
        </p:nvPicPr>
        <p:blipFill>
          <a:blip r:embed="rId2"/>
          <a:stretch/>
        </p:blipFill>
        <p:spPr>
          <a:xfrm>
            <a:off x="4267080" y="1066680"/>
            <a:ext cx="4876920" cy="3514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France%20-%20Versailles%20Fountains"/>
          <p:cNvPicPr/>
          <p:nvPr/>
        </p:nvPicPr>
        <p:blipFill>
          <a:blip r:embed="rId3"/>
          <a:stretch/>
        </p:blipFill>
        <p:spPr>
          <a:xfrm>
            <a:off x="609480" y="3276720"/>
            <a:ext cx="464832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ailles – Hall of Mi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124bg"/>
          <p:cNvPicPr/>
          <p:nvPr/>
        </p:nvPicPr>
        <p:blipFill>
          <a:blip r:embed="rId1"/>
          <a:stretch/>
        </p:blipFill>
        <p:spPr>
          <a:xfrm>
            <a:off x="838080" y="1752480"/>
            <a:ext cx="5334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19520" y="1508040"/>
            <a:ext cx="4876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II of F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d F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47-1559 (died unexpectedly after a jousting tourna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057040" y="30254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- War BTW France/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e 50 years following Henry II’s death, France will be locked in religious struggles and a simmering civil w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250px-Henri2-1"/>
          <p:cNvPicPr/>
          <p:nvPr/>
        </p:nvPicPr>
        <p:blipFill>
          <a:blip r:embed="rId1"/>
          <a:stretch/>
        </p:blipFill>
        <p:spPr>
          <a:xfrm>
            <a:off x="0" y="0"/>
            <a:ext cx="23814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Kings Tried to Build Their Own Versai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2514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terhof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ilt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ter the Gr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uler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s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e built Peterhof after visiting Versa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Peterhof"/>
          <p:cNvPicPr/>
          <p:nvPr/>
        </p:nvPicPr>
        <p:blipFill>
          <a:blip r:embed="rId1"/>
          <a:stretch/>
        </p:blipFill>
        <p:spPr>
          <a:xfrm>
            <a:off x="2438280" y="1523880"/>
            <a:ext cx="65152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Versailles “cop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3124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enbrunn, located in Vienna, Austria, built by the Hapsburg’s Dyn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06-17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P7130330"/>
          <p:cNvPicPr/>
          <p:nvPr/>
        </p:nvPicPr>
        <p:blipFill>
          <a:blip r:embed="rId1"/>
          <a:stretch/>
        </p:blipFill>
        <p:spPr>
          <a:xfrm>
            <a:off x="3048120" y="12952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T001305B"/>
          <p:cNvPicPr/>
          <p:nvPr/>
        </p:nvPicPr>
        <p:blipFill>
          <a:blip r:embed="rId2"/>
          <a:stretch/>
        </p:blipFill>
        <p:spPr>
          <a:xfrm>
            <a:off x="155520" y="4608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52680" y="3805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Yet another Pa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ansso3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sans_souci_potsdam2"/>
          <p:cNvPicPr/>
          <p:nvPr/>
        </p:nvPicPr>
        <p:blipFill>
          <a:blip r:embed="rId2"/>
          <a:stretch/>
        </p:blipFill>
        <p:spPr>
          <a:xfrm>
            <a:off x="0" y="0"/>
            <a:ext cx="3105000" cy="2286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palais1h"/>
          <p:cNvPicPr/>
          <p:nvPr/>
        </p:nvPicPr>
        <p:blipFill>
          <a:blip r:embed="rId3"/>
          <a:stretch/>
        </p:blipFill>
        <p:spPr>
          <a:xfrm>
            <a:off x="3362400" y="2209680"/>
            <a:ext cx="5781600" cy="39639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9"/>
          <p:cNvSpPr/>
          <p:nvPr/>
        </p:nvSpPr>
        <p:spPr>
          <a:xfrm>
            <a:off x="304920" y="2666880"/>
            <a:ext cx="275904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Sans Souci Pa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t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derick the Great of Pruss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pprox. 1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ed in Potsdam (outside of Berlin) Germ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ardens are approximately the same size as Central Park NYC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1905120" y="6248520"/>
            <a:ext cx="609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914400" y="61722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d all these Kings, Queens and Emperors have in common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KAY JUST ONE M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IN 1702 BY A DUKE AND SOLD TO GEORGE III IN 17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buckingham%20palace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Buckingham%20Palace%20(MZ)"/>
          <p:cNvPicPr/>
          <p:nvPr/>
        </p:nvPicPr>
        <p:blipFill>
          <a:blip r:embed="rId2"/>
          <a:stretch/>
        </p:blipFill>
        <p:spPr>
          <a:xfrm>
            <a:off x="2590920" y="194328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4267080" y="9144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ss where this is located. Hint it’s not Dar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4952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as similar to all these Pala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and Design?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are these Palaces different from cast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Ter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oque- how did the palaces reflect the Baroque period of a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ssage to the People and Nobles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a residence reflect its’ own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ansso3"/>
          <p:cNvPicPr/>
          <p:nvPr/>
        </p:nvPicPr>
        <p:blipFill>
          <a:blip r:embed="rId1"/>
          <a:stretch/>
        </p:blipFill>
        <p:spPr>
          <a:xfrm>
            <a:off x="0" y="504828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T001305B"/>
          <p:cNvPicPr/>
          <p:nvPr/>
        </p:nvPicPr>
        <p:blipFill>
          <a:blip r:embed="rId2"/>
          <a:stretch/>
        </p:blipFill>
        <p:spPr>
          <a:xfrm>
            <a:off x="7086600" y="228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eterhof"/>
          <p:cNvPicPr/>
          <p:nvPr/>
        </p:nvPicPr>
        <p:blipFill>
          <a:blip r:embed="rId3"/>
          <a:stretch/>
        </p:blipFill>
        <p:spPr>
          <a:xfrm>
            <a:off x="6553080" y="508644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buckingham%20palace"/>
          <p:cNvPicPr/>
          <p:nvPr/>
        </p:nvPicPr>
        <p:blipFill>
          <a:blip r:embed="rId4"/>
          <a:stretch/>
        </p:blipFill>
        <p:spPr>
          <a:xfrm>
            <a:off x="0" y="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133" name="WordArt 9"/>
          <p:cNvSpPr txBox="1"/>
          <p:nvPr/>
        </p:nvSpPr>
        <p:spPr>
          <a:xfrm>
            <a:off x="990720" y="914400"/>
            <a:ext cx="14000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nk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81480" y="5331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 of the Spanish Succ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0" y="2666520"/>
            <a:ext cx="3657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versus- Everyone in Pink (Grand Alli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KISH_17_398"/>
          <p:cNvPicPr/>
          <p:nvPr/>
        </p:nvPicPr>
        <p:blipFill>
          <a:blip r:embed="rId1"/>
          <a:stretch/>
        </p:blipFill>
        <p:spPr>
          <a:xfrm>
            <a:off x="0" y="0"/>
            <a:ext cx="511488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5410080" y="441972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 Feared a Unified Spanish-French King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Louis XIV’s grandson, Philip V was next in line to become King of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7240" y="3045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aty of Utrec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western_europe_utrecht_treaty"/>
          <p:cNvPicPr/>
          <p:nvPr/>
        </p:nvPicPr>
        <p:blipFill>
          <a:blip r:embed="rId1"/>
          <a:stretch/>
        </p:blipFill>
        <p:spPr>
          <a:xfrm>
            <a:off x="2733840" y="1743120"/>
            <a:ext cx="6410160" cy="51148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0" y="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1713, in the Netherlands.  The treaty ENDED the European War of the Spanish Succession.  Limited French Power- through Balance of Power (Allia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sts of Extravagance- Wars and Keeping up the Pa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forb007"/>
          <p:cNvPicPr/>
          <p:nvPr/>
        </p:nvPicPr>
        <p:blipFill>
          <a:blip r:embed="rId1"/>
          <a:stretch/>
        </p:blipFill>
        <p:spPr>
          <a:xfrm>
            <a:off x="685800" y="1371600"/>
            <a:ext cx="6819840" cy="51148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7696080" y="1295280"/>
            <a:ext cx="1447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s are Expensive- The Iraq War has already cost $600 Billion and some experts believe it will rise to $1Trillion!!!, or $3300 per each person living in the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5638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nee Descar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osophe and Mathematici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 think - therefore I a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ther sayings by Descar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eal seeker after truth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t is necessary that at least once in your life you doubt, as far as possible, all thing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ading of all good books is indeed like a conversation with the noblest men of past centuries who were the authors of them, nay a carefully studied conversation, in which they reveal to us none but the best of their thought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 our own thoughts, there is nothing absolutely in our power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optimist may see a light where there is none, but why must the pessimist always run to blow it out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not enough to have a good mind; the main thing is to use it well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it is not in our power to follow what is true, we ought to follow what is most probable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descartes%20drawing"/>
          <p:cNvPicPr/>
          <p:nvPr/>
        </p:nvPicPr>
        <p:blipFill>
          <a:blip r:embed="rId1"/>
          <a:stretch/>
        </p:blipFill>
        <p:spPr>
          <a:xfrm>
            <a:off x="7318440" y="0"/>
            <a:ext cx="1825560" cy="2209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descartes"/>
          <p:cNvPicPr/>
          <p:nvPr/>
        </p:nvPicPr>
        <p:blipFill>
          <a:blip r:embed="rId2"/>
          <a:stretch/>
        </p:blipFill>
        <p:spPr>
          <a:xfrm>
            <a:off x="0" y="0"/>
            <a:ext cx="15717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Wri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rabelais"/>
          <p:cNvPicPr/>
          <p:nvPr/>
        </p:nvPicPr>
        <p:blipFill>
          <a:blip r:embed="rId1"/>
          <a:stretch/>
        </p:blipFill>
        <p:spPr>
          <a:xfrm>
            <a:off x="3962520" y="0"/>
            <a:ext cx="124272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montaigne"/>
          <p:cNvPicPr/>
          <p:nvPr/>
        </p:nvPicPr>
        <p:blipFill>
          <a:blip r:embed="rId2"/>
          <a:stretch/>
        </p:blipFill>
        <p:spPr>
          <a:xfrm>
            <a:off x="228600" y="762120"/>
            <a:ext cx="1905120" cy="21906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2895480"/>
            <a:ext cx="2971800" cy="31230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aigne (1533-1592)  French courtier and author of ESSAIS (1572-80, 1588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ssay, a short piece that discusses the author's personal thoughts about a particular subj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moliere"/>
          <p:cNvPicPr/>
          <p:nvPr/>
        </p:nvPicPr>
        <p:blipFill>
          <a:blip r:embed="rId3"/>
          <a:stretch/>
        </p:blipFill>
        <p:spPr>
          <a:xfrm>
            <a:off x="7086600" y="304920"/>
            <a:ext cx="1619280" cy="2057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1"/>
          <p:cNvSpPr/>
          <p:nvPr/>
        </p:nvSpPr>
        <p:spPr>
          <a:xfrm>
            <a:off x="7467480" y="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514600" y="5029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6400800" y="2362320"/>
            <a:ext cx="2743200" cy="39459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nch actor and playwright, the greatest of all writers of French comed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ière's masterpie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s attack hypocrisy and vice, he created characters that have become immortal types, such as the hypochondriac, the hypocrite, the miser, the misanthrop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3200400" y="1905120"/>
            <a:ext cx="2819520" cy="4415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nch Renaissance writer, a Franciscan monk, humanist, and physicia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ic novel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argantu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antagrue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Rabelais' heroes are rude but funny giants traveling in a world full of greed, stupidity, violence, and grotesque jok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 books were banned by the Catholic Church and later placed on The Index librorum prohibitorumon (the Index of Forbidden Books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520" y="228240"/>
            <a:ext cx="579096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herine de Med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123720" y="990720"/>
            <a:ext cx="5715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very nice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in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mous Medici family of Flo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 married into French Roy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catherinemedici2"/>
          <p:cNvPicPr/>
          <p:nvPr/>
        </p:nvPicPr>
        <p:blipFill>
          <a:blip r:embed="rId1"/>
          <a:stretch/>
        </p:blipFill>
        <p:spPr>
          <a:xfrm>
            <a:off x="0" y="0"/>
            <a:ext cx="3019320" cy="38098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H="1">
            <a:off x="1523520" y="121932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066680" y="4267080"/>
            <a:ext cx="7620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s, Charles IX and Henry III, both became King but she was the Power behind the Throne- Weak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as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St. Bartholomew’s Massac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ill eventually become of France at the end of the1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entury (1700s)?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e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ing food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f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of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e of the Bourgeoi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at in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guen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2895480"/>
            <a:ext cx="79246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Calvinists- By Henry II’s death in 1559, 16% of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 France feared the rise of Protestan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24, 1572, 1000s of Huguenots were killed in the St. Bartholomew’s Massacre (they were in Paris to celebrate Henry of Navarre’s marriage to Catherine de Medici’s 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egour1"/>
          <p:cNvPicPr/>
          <p:nvPr/>
        </p:nvPicPr>
        <p:blipFill>
          <a:blip r:embed="rId1"/>
          <a:stretch/>
        </p:blipFill>
        <p:spPr>
          <a:xfrm>
            <a:off x="155520" y="46080"/>
            <a:ext cx="2676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 of Gu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of Guise (Family)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ed to the throne of Fr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mly Catholic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ed, Mary Stuart (Scotlan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t,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ance wi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pain raised suspicions in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 of Bour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use of Bourbon (Family) also vying for Thr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ry III of Navarre beca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ry IV of Fr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ise of Henry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Bourbon king of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lace Intrigue-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of Navarre, who was a Huguenot, married Catherine de Medici’s daughter on August 24, 1572 (YES!!! St. Bartholomew’s Day)…how did Catherine celebrate her daughter’s hand in marriage- by slaughtering Huguenots.  The marriage was arranged, so Catherine wasn’t upset about the marriage, but she did know that 1000s of Huguenots would come to the wedding, so it would be a great opportunity to kill a lot (remember she was not a nice person).  Henry, himself, had to convert to Catholicism to avoid death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Orleans"/>
          <p:cNvPicPr/>
          <p:nvPr/>
        </p:nvPicPr>
        <p:blipFill>
          <a:blip r:embed="rId1"/>
          <a:stretch/>
        </p:blipFill>
        <p:spPr>
          <a:xfrm>
            <a:off x="7826400" y="0"/>
            <a:ext cx="1317600" cy="16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Orleans"/>
          <p:cNvPicPr/>
          <p:nvPr/>
        </p:nvPicPr>
        <p:blipFill>
          <a:blip r:embed="rId2"/>
          <a:stretch/>
        </p:blipFill>
        <p:spPr>
          <a:xfrm>
            <a:off x="0" y="0"/>
            <a:ext cx="1317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14800" y="1519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of Nava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941640" y="990360"/>
            <a:ext cx="5181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se to Throne after Henry III died (no heir)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was a whole new family!!!- House of Bou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testant, TWICE he changed religions and became Catho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ict of N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holicism is the official religion of France but Protestantism is toler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- No Protestant services in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sed chicken dinners once a wee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ssinated in 1610- His son, Louis XIII becomes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enry4"/>
          <p:cNvPicPr/>
          <p:nvPr/>
        </p:nvPicPr>
        <p:blipFill>
          <a:blip r:embed="rId1"/>
          <a:stretch/>
        </p:blipFill>
        <p:spPr>
          <a:xfrm>
            <a:off x="0" y="838080"/>
            <a:ext cx="3819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uis X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62160" y="121932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IV’s 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 9 when he became King, ruled 1610-16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ed on his behalf until he became an ad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nal Richelieu dominated the th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uis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k K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 Cardinal Richelieu, future French Kings would dominate the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louis13france2"/>
          <p:cNvPicPr/>
          <p:nvPr/>
        </p:nvPicPr>
        <p:blipFill>
          <a:blip r:embed="rId1"/>
          <a:stretch/>
        </p:blipFill>
        <p:spPr>
          <a:xfrm>
            <a:off x="155520" y="46080"/>
            <a:ext cx="3562560" cy="5286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762120" y="60199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Ruler is too young to Rule, the person acting on his/her behalf is called a Re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9880" y="2016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nal Richelieu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9880" y="1353600"/>
            <a:ext cx="5105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d France during the Reign of Louis XIII (1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ome- persecuted Hugeon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way- supported Protestants!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ght to Diminish the Power of the No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a civil service (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nd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o collect taxes, empowering the King’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richeli"/>
          <p:cNvPicPr/>
          <p:nvPr/>
        </p:nvPicPr>
        <p:blipFill>
          <a:blip r:embed="rId1"/>
          <a:stretch/>
        </p:blipFill>
        <p:spPr>
          <a:xfrm>
            <a:off x="0" y="0"/>
            <a:ext cx="3533760" cy="51148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685800" y="586728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es a Church Official gain so much Governmental Power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e title Cardinal is only granted by the Pop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4:13:43Z</dcterms:created>
  <dc:creator>Darien Public Schools</dc:creator>
  <dc:description/>
  <dc:language>en-US</dc:language>
  <cp:lastModifiedBy>Administrator</cp:lastModifiedBy>
  <dcterms:modified xsi:type="dcterms:W3CDTF">2016-03-14T14:18:18Z</dcterms:modified>
  <cp:revision>21</cp:revision>
  <dc:subject/>
  <dc:title>Henry II of France</dc:title>
</cp:coreProperties>
</file>